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C63-C438-4108-8385-58281A55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751-677C-411A-BA56-72E2DB0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DBF9C-0556-4196-B82E-454D1C3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04FA0-0155-4746-A27A-E2F4B8F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85E76-1D2C-475F-A408-65755BDA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409B8-F37F-4DF1-A363-62362A5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DA662-7412-48B1-A2BB-E509964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571DD-8863-423D-8728-3E59022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54029-4686-4C8F-A7FC-C09A0D1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8065-DD73-4686-95A5-F69DBE88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DE12E-557A-424A-BF3F-B1452A56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23265-EEDC-455F-8445-8B9DC7DB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6D6-DD47-46D4-8302-D3EAEF44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941F1-EB94-40BB-B743-CE52F657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F174A-EDA5-420E-BCE0-675AFEF9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1E9F0-9B73-4BB4-BF6F-BA19EF75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6DF1E-6EE5-4594-A97F-0A1AE4D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BB46C-09E5-4EF6-B8B2-F137430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AA9E6-952F-4822-9DAC-4596F2C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5E876-BADD-4F22-A01E-1E34773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0BF66-2926-427D-A664-49C06F4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C5476-D12C-46D4-BCAF-5175E0AB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D728-E740-4B09-919B-257C0ABD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4A4-CF22-4F75-804B-52A1644A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58028-EB7A-41A9-9A98-10558570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EB403-8A54-4A12-8616-8F649DF5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437A0-A295-4D42-B852-8A1AABD6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B4A3-C98D-4341-8C0E-0388807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691C-865B-4F3E-A280-4DAC2EDE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2B65-7814-4AB0-97F0-E80AABA6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79C6E-365B-4816-A357-DEAB57F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788F-80E0-436C-B2C5-490DB65C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27C17-75E6-4341-92EF-FF58894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99DE2-E81C-456A-BF85-290E1A5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6F8-C0BD-4321-93A7-B3B0CC29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DB8DB-725C-45AE-B4D5-908BB477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96077-B1E5-491F-8870-32EDBEBE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23266-033D-4334-9D82-709A5CD4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0035D-1EC1-4628-A658-D2CE4F01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7022D-CEAA-46F4-BC4A-6D98BA9D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96539-2B89-4970-8259-4EF4ABB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7235C-0B01-4E51-8015-1A7E1F2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092AB-AEAC-40F0-A779-DEBE6248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53A14-17A9-40AA-8F1F-1E59D46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3FB4B-1283-4964-B940-428F52D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BB4C-7BF1-47E3-9CF4-8B27F62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6E999-B1A5-4147-A12D-76878C2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60339-2859-47E8-B5D6-004A5E0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530CD-B79A-4B7F-94D0-A0381377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2BBDC-F2C4-419A-B3E8-02F40984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D7214-8969-4C52-9602-4735750D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8B259-795D-4A8F-B05E-F2E33D93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6F1F0-5C69-49BB-AB8D-F090762D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5C998-A2FD-4E4A-8F06-CA57E64B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E25EA-E07A-4C5D-BCC1-671301C4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FD1A3-57C4-4B7E-A0C0-1353669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197F-9F19-4D63-B90D-5CAA194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BE477-859F-4823-A785-DB756B3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DA2FA-5616-4389-9B10-08DDC67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C7A9B-3605-4AF0-A558-43DE1230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FFF9E-AD25-420E-84F6-10B6E7F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B5231-6753-4D60-8F74-8B15E242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27F25-0334-4FBE-AF56-92EA2292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EBC85-A88F-44F5-8BA5-C5B2D487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8F9A1-6417-46D8-BEFC-17393777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19495-CF5B-4E34-88DF-B5955706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F53D7-164B-40C0-806F-A779370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FF28-4CEC-4FAE-9029-019E6D2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11302-6FC8-4C2F-9065-7D630731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C2B88-7612-4023-B9E5-07E6EEE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AFC41-8900-45FA-BA61-6D29CAD1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609C9-B66B-45F8-96ED-9A39726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AAF64-1668-4764-90B6-3B1B079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1544F-0447-4F3A-8DB5-8DFB758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628A0-0140-46CF-AE75-E14F6979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907DD-FAB2-4103-96BB-A245BF5C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EAB4E-6C97-4365-BEC5-65FB229C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793AD-EF42-4E94-87AD-AD6BCC0F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3653-5D1C-4279-9BAE-DE1D2110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E637E-863D-4A86-AB18-527FC82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66262-37AD-428F-944D-E20EEE8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62B81-7D5D-4040-A33F-93BC32A6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D67F8-6F15-4521-9C8D-96D5E05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5C67F-E2C2-4555-ABA7-77F8977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44266-48ED-4409-A595-BE2C0B8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307D9-00C8-4CB1-ACF4-B5A42044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841CFE-0959-4645-8480-0E23EC1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DD413-F6CA-42BA-8EB1-8307648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A32B8-ED56-4ADE-95B9-657BEE98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3AC8-36B1-48F9-ADCE-6D430044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80C1D-6C70-404A-9A20-05A42508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3233C-B1A3-478B-8D06-A0EAD57B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63883-CF9C-456C-93B0-A5642B5C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92FAA-9845-4D1F-A332-14D2BB48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256F4-2023-4F6B-8F0D-C42DAE89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500818-09EE-422D-86C4-15748B8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35C5B-E2EE-4FE4-99EA-805B2B0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E56A2-2922-4B75-805D-5360AAA1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43330-8F41-417A-9C2A-0A78635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C6922-0673-456E-9CC0-8C95299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985D-4F2D-4DDD-A6DC-634C322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E7B45-9C0E-4183-B161-A46F2082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93775-D710-4019-AE53-3A042998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0F80D-80CD-4A33-AF0C-B4676BCF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4DCC9-FF97-4258-8C68-B13ED50B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7CDE0-8A38-4930-ADA6-67584A2D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C891B-A95C-49B7-AFDA-0C8CE7C3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513DC-7FAA-423E-B69B-B1C0FF5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51F62-5D5A-421C-937C-8CEA42B7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55B3A-E264-4BE1-BBBB-5F6FF7D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F5DA4-D568-4088-9730-C0DD6B2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8BF-8F8C-4075-B2EA-577934EC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E231-FBAC-4463-A6E9-AC9B8AB2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AC68E-4C70-480C-9B5D-67EB75C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F2E1D-35BC-4E69-B4A0-D83DAC17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4CC7B-1ED9-4162-9C17-688062D4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33515-8A16-4B11-BE01-5DB44B9B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D7DA8-2C04-4CB5-B949-B2E86C2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72443-34C5-4112-8608-E86D9F31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F0A3F-3628-481A-B757-6FF882B6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B64B1-5049-4D1A-8A73-DB76DF57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060A7-02FE-41CF-9155-A45BE3F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A7739-BBC8-46CE-8487-3DCED75C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E880-9C11-45B2-8FDC-B94FA22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763CC-7806-49A9-9B4D-C89A70B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8E920-E256-412E-8AF0-E582A1C6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FF835-2E41-48C1-B9FB-732F391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026BF-6B79-46E1-8B95-85ACD65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AD8D0-1BBA-4A13-BC91-6E4FE07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DFD717-63DA-4C94-B0A2-F13AC8AE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6CBD7-CF33-4635-A348-AEBBFA6A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894B1F-A82E-4030-B1E9-BD66FB7D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45C6C-EEAF-4672-AC7A-2D137A80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1004F-0346-4210-8D98-AB11F678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9A0A-9C64-4E3F-ADE5-4F93C7A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3AEE9-048E-4E12-8E16-70170E2A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635CA-60CA-4C0C-BF7E-FCEA236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DA405-944A-4EE5-BDF4-AFC6FC29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3C7EB-7630-4C7D-BAFA-DA92F04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327D5-B07C-4BEC-9BDF-4235B5DC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E33D8-E508-4C37-85B1-814040F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7BA4D-E328-4926-8E22-37562D90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C7411-40E8-4022-8BB0-698A6A76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1032F-B91C-4629-BC7C-C23FAE1C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857D2-277A-47D6-87DC-7AB3CA05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4179-8650-4EF2-BD40-D7E34995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34165-45F7-48E1-85D5-9BAF3641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25308-310A-4F21-89A1-343146A8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0E99C-3BC1-4701-A2A7-71E9DEBB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B352F-246D-4595-9764-A0F3FB5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18F73-C6CC-4DE9-AA15-9B76D91B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3DC0F-232F-4D87-9469-A52C5D4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A9622-AF0A-4408-B2B7-06EBF85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B14ED-F307-4513-A7EF-4FB0C83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4AED8-8125-4BB9-8D0D-FCDD5C1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35EE8-F646-413F-9E76-2B3501B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8F7D-A851-45E7-ABD0-B18E26BF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7A5A6-B721-4D78-87A4-F0E6CA6C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2CA14-1225-4746-9629-D67F6D90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20337-0FB5-43A4-AEAC-7A264EE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2AF5A-31DA-42E7-AD04-D98984E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B7FBE-5C54-4397-B281-9615988E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9BB452-128F-4C29-B77B-A9EA81B2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846FA-9432-42B5-B221-137FC1D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24AA1-3E6E-4E96-A110-F5F6127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F9E47-CAEA-4A01-9C14-C8D95F6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730B3-0357-4370-9F4A-93F834D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F7FB-C581-4D38-A2AA-3AD657D0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3F29E-3ED8-4CEA-B545-4F126683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B266B-7710-4219-98A7-274C496F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9549D-2382-4216-8E2C-205BCF66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9EBBF-4637-4968-886C-1E150BBB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66BE26-1CC2-4286-B4E8-4DA7BA3D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E8B4F2-19C0-49C1-9D5A-C8ED7CF2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EB0F8D-5701-4D71-A0F3-01C19E8B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67E54-C68A-4EAB-A167-6161B29A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3F2A36-A932-48E1-974B-937B38C9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B31162-2973-41BF-81BF-B0ADFED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5F0F-4FD4-4CD0-A360-28747CE5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F5BB44-9730-4029-A558-E0A0A13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30D0D-D127-414D-8DD1-BF53E4E3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04B447-BDD1-4FE0-9D83-D4421240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408366-DE82-4F78-BD7F-C8E041A1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5339D7-AB5E-4753-93CD-26CE0EAF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76F736-FECD-44A1-9482-4F8E9C03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0B896F-CA80-49BF-8E13-FDF3459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B7D4D-E2E1-4A06-96C9-19AFF8F6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8D4D2-AC4C-40ED-8F7D-4CD39E0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7ACCF7-3820-4D7B-861F-282EE35B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873D-2C70-4FE0-8700-D87C32A3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E84DA-046A-46D6-B95B-0960214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B90D0-E185-4D61-A0E4-7B30A356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777FF-4D11-4256-B250-2FB0F43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3F5651-589C-4105-946F-F054A81B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F6C5E8-56FF-44AC-9F2C-4CC113DA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E163AD-D574-45E1-A7F4-FECEEDFC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C33FD2-4E89-45C8-938B-971AD8DC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D3FF-7BCF-4938-A0BA-E43CED5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28C9-23F4-422E-88B4-5C2C1659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0F9-4E3D-4B96-9E9A-577163FB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F0ED-3823-4360-ABAE-4E0917D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0C212-5A34-4EE8-9200-EB3FE56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BC82-352C-4D4E-B678-74AAA53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691B-5667-4A26-91B2-C67DDAE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1CCA-F42B-49AA-8D49-BC26A56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7DCD-CBD7-4488-8258-655A37CE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6272-E702-405B-B25A-51347C2F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C4DC-0C90-4B9B-AFEE-AE0F990C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DB72-9AD0-4BAD-994D-5E25CB5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5C4D-4DE0-4593-8012-DA0195BB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1F6-0494-4BCA-9CAE-62720FB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BE59-A83E-4D74-82C6-20C4A7EA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D3BD-FA78-46B4-B9CD-43C5CCD8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37FF-A5CB-4CE4-BE3E-BDE6190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0E12-3541-4253-A46F-AD62CFE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A7F6-3619-4AD6-9B01-3B425C7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803A-6D1F-476A-9776-80FBA5CE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735B-DA50-4A77-A7BD-07E3A0D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863A-3FCC-4A9A-9E4B-AEC749DE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13E5-8F74-4360-BF7B-74D6A319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C668-3A1F-4EF4-B049-2E8DFD72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32B-B923-490C-AAEB-B050FE28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F5EA-63FF-44CA-9A98-A7302B4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C22A-A031-41A6-B11D-C14F4E53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9B1A-F1A4-43D1-889E-E3C46E94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6B487-47C0-4FDC-84F1-24E2C8AF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1BDD-3B40-4DDD-ACF8-A06D961D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230F-61F3-48F6-85E8-64C5DD9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9AF2-E89D-45A1-9843-EC0DA61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CD3F-E76B-4313-AC8A-A4C631D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DA898-71BB-4F72-8A67-C94CF9D4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B1E7F-664B-4651-B75F-B8BD613A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B75-2BF0-4D71-AA48-722529A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62DE-2A79-4A7A-8EFD-17DED8E7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084E-A396-4BEF-A72C-5C58A9CB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A159-8DF3-455E-A7A9-7ABAA287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391E-E1B2-41BB-983B-E3DDD822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726E-531D-4474-8ABD-F8FCF34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906F-8A77-425C-978D-1F01E27E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B32EA-9A27-42E9-ABBD-EB05A09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EC5BE-C9ED-408B-8DE5-683DE67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4DF6-CD63-4CE0-A6B4-85A3AEDF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32AB-7B03-494F-BBA1-82284684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F57-045E-4944-84A3-AF4DD19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0A7E-91BB-449D-B8AB-15711104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086F-DEF0-4CB8-929B-5847E1C4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536F-EC63-4488-8214-B3E347A3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139C9-3ECE-45C8-AF70-AAA9B03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3FF4B-83FB-4156-9EDE-B1E64089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13511-A65A-48DF-BEAD-15441627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05828-308D-4193-A507-78ADBD01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8188-2E6A-4A84-BC3A-F2FC3DE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CF07-9121-427A-842B-8F2E0D29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04E6-ED56-43C6-BB2F-6C1F1E2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2C9-3BED-487B-9B18-03368C6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405C-CD94-4612-A74E-7292588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4579-2249-4623-ACE9-893872C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2658-78DD-4617-97FC-AA17EDE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1546-7C30-4890-B748-40516DE8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DD72-D96B-486E-B736-3454DD8A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C639-335F-4CD8-8D40-7959DCCD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C5F87-86DF-4995-94A6-FD1BC9A7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6860-2915-454A-A823-855E98C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4D03F-02A7-4A21-AC02-28CF8C67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7178-C4F9-42EB-A546-30E5A69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E3B-D19E-4E2D-9256-FE2B71B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0F2C-5F27-4A2B-952D-C6F0AF28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81B47-7A21-4FDA-8946-D8D944B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E54F-496C-44AB-8F0C-2461491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247D-005B-417A-8AF4-5786C18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977AF-E55B-4A72-B2BD-D954B2B4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64765-010F-4B38-B607-C37DB6A0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C3A0-5387-414F-8C9E-3C173D2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326D4-1002-4902-8BAA-D5C02F5E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80CA7-E4DC-4A5F-ABAC-1E3F4509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A3786-F737-47F5-9DB1-1AEB6697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2AAC-12CA-4BC1-AAE5-13BF0AB52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A0A-AEB4-40C8-95B0-102D27DCD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432-FA04-41CB-833A-3EEC503C27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06C8-88DA-410D-926C-518636A1B6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3156-C4F1-484B-A3A2-ED8F8DE84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F38-9D47-49D9-AD79-ED3A8F337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3AE9-14F9-4A52-9A04-53200852F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F11E-76D2-465E-BB08-B9C089D8F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877B-6B95-4AB4-9FB5-A2FB41E91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2F1F-586C-48C9-B000-C9F4BFD55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9A08-B14C-494D-9CDD-88EF0E10A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3D58-7C0C-489C-9224-A068264959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D1C-F92F-4F98-A473-F9D7DF4629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25FA-1DD8-40F0-9B35-5A87D0F7D5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E256-DD96-4C66-B1A7-D2A7AD4DCB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C3B-2370-4512-8473-1C3FF98028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AAC-69CC-4411-BFEF-D6A642521F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33C-3D20-4CFB-9646-107281AD4C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BF51-4671-4FFD-A7C2-CB2229BE30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62B-6465-4522-B955-94937BEDF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D11F-F154-4D1F-8AA6-C735FB5B8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A188-768D-4CF5-AAE3-A966BA19FE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BE4-5BC2-4800-8EDD-04B7CB4A36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7CEC-6545-4CF8-B71B-7F2695E78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06-0D1F-4D10-9EDA-4D0060F5E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353E-3F2A-47A3-8CEC-6E106F3A1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6132-A707-4861-A914-61EF397E0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C3E-79C7-41DB-987A-BB6233D87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D383-3EFB-408F-B424-8E95F94A2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B79-DF92-41F7-8EDA-D3C5AA6DCA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3061-1384-45AF-8D44-7DBDB4B1D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DE16-118C-474A-80BE-2EF7F78392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13BE-01F4-45AF-947B-5510A26CE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CC0-326E-4396-A090-076A07D315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914B-507E-4864-8DB4-4907FFFEC2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A9DF-171D-48E0-8AF0-7D984BCEBA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C70A-043A-462D-B44B-B38E45DF4F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763F-30D9-496D-A46B-9C2EBEEC28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2B3-59AA-44A6-AD0D-9C8C67D4C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8C59-921E-469D-95DE-A66288C8C5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DA12-6920-44A7-9DD7-02DBE323E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207-D21C-4257-90F2-E8DF0BADC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0440" y="3089160"/>
            <a:ext cx="876312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4200" y="797040"/>
            <a:ext cx="8715600" cy="5981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58341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58338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971640" y="5734080"/>
            <a:ext cx="58338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900000" y="6324480"/>
            <a:ext cx="583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122480" y="701640"/>
            <a:ext cx="7221600" cy="60469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19280" y="432108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547640" y="479736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1547640" y="5229360"/>
            <a:ext cx="43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1476360" y="580536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1476360" y="631044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414360" y="76320"/>
            <a:ext cx="8520120" cy="6705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042920" y="5229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1042920" y="574848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1042920" y="63532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81080" y="876240"/>
            <a:ext cx="8781840" cy="510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332000" y="491184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403280" y="5516640"/>
            <a:ext cx="547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581040" y="1528920"/>
            <a:ext cx="7981920" cy="3800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1042920" y="28368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971640" y="4495680"/>
            <a:ext cx="70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33280" y="52560"/>
            <a:ext cx="8677440" cy="67528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403280" y="4637160"/>
            <a:ext cx="56898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332000" y="5172120"/>
            <a:ext cx="56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56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332000" y="6265800"/>
            <a:ext cx="56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76280" y="1542960"/>
            <a:ext cx="8191440" cy="3772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042920" y="272268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61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61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042920" y="4422600"/>
            <a:ext cx="612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3360" y="1273320"/>
            <a:ext cx="9017280" cy="189864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2" descr=""/>
          <p:cNvPicPr/>
          <p:nvPr/>
        </p:nvPicPr>
        <p:blipFill>
          <a:blip r:embed="rId2"/>
          <a:stretch/>
        </p:blipFill>
        <p:spPr>
          <a:xfrm>
            <a:off x="1379520" y="3760920"/>
            <a:ext cx="6896160" cy="2181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10356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5796000" y="1773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5435640" y="2276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323200" y="17445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8445600" y="227664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291636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3059280" y="4941720"/>
            <a:ext cx="68400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6012000" y="4365720"/>
            <a:ext cx="68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2"/>
          <a:stretch/>
        </p:blipFill>
        <p:spPr>
          <a:xfrm>
            <a:off x="6357960" y="494172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